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0C5-2218-41E7-A2EE-D4480B27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D80-2599-4C47-B67E-753D3036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6E6-D113-443E-8B07-B995F39D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0F2-37B5-48BE-AD09-B57A56C1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8B0-B6E4-4850-8FB9-885B7641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587-537F-4482-A372-02B94762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C5C-88FF-4EFF-A2B4-E06203A3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5DA-B8B7-41DA-B35C-9E5CD23F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A97-DC02-44CC-9D46-FFC7ABC9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99A-F04E-4C4D-A9B4-0668EF20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67D-2BE1-453D-9C4B-623D47ED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4A8-3945-4464-8978-C5B4C5AE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E38C-E364-4AF0-8918-982E0B7A3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341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8:12:24Z</dcterms:created>
  <dc:creator>Maria Arespacochaga Maroto</dc:creator>
  <dc:description/>
  <dc:language>en-US</dc:language>
  <cp:lastModifiedBy>Maria</cp:lastModifiedBy>
  <dcterms:modified xsi:type="dcterms:W3CDTF">2006-10-21T17:50:53Z</dcterms:modified>
  <cp:revision>3</cp:revision>
  <dc:subject/>
  <dc:title>Presentación de PowerPoint</dc:title>
</cp:coreProperties>
</file>